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3.wmf" ContentType="image/x-wmf"/>
  <Override PartName="/ppt/media/image3.wmf" ContentType="image/x-wmf"/>
  <Override PartName="/ppt/media/coin.wav" ContentType="audio/x-wav"/>
  <Override PartName="/ppt/media/arrow.wav" ContentType="audio/x-wav"/>
  <Override PartName="/ppt/media/image1.jpeg" ContentType="image/jpeg"/>
  <Override PartName="/ppt/media/image15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cashreg.wav" ContentType="audio/x-wav"/>
  <Override PartName="/ppt/media/hammer.wav" ContentType="audio/x-wav"/>
  <Override PartName="/ppt/media/image6.wmf" ContentType="image/x-wmf"/>
  <Override PartName="/ppt/media/click.wav" ContentType="audio/x-wav"/>
  <Override PartName="/ppt/media/whoosh.wav" ContentType="audio/x-wav"/>
  <Override PartName="/ppt/media/breeze.wav" ContentType="audio/x-wav"/>
  <Override PartName="/ppt/media/camera.wav" ContentType="audio/x-wav"/>
  <Override PartName="/ppt/media/image2.png" ContentType="image/png"/>
  <Override PartName="/ppt/media/image10.wmf" ContentType="image/x-wmf"/>
  <Override PartName="/ppt/media/suction.wav" ContentType="audio/x-wav"/>
  <Override PartName="/ppt/media/image4.gif" ContentType="image/gif"/>
  <Override PartName="/ppt/media/drumroll.wav" ContentType="audio/x-wav"/>
  <Override PartName="/ppt/media/type.wav" ContentType="audio/x-wav"/>
  <Override PartName="/ppt/media/wind.wav" ContentType="audio/x-wav"/>
  <Override PartName="/ppt/media/image9.wmf" ContentType="image/x-wmf"/>
  <Override PartName="/ppt/media/explode.wav" ContentType="audio/x-wav"/>
  <Override PartName="/ppt/media/image11.wmf" ContentType="image/x-wmf"/>
  <Override PartName="/ppt/media/voltag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F236-B58B-41EA-98B2-0A02B72B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1F68-A959-411B-A0AC-DFEA3067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473E-4AC8-4D39-832F-53C60DBC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F7D7-D434-4CF5-AC7F-62EBA0F5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826-3B36-475F-AEED-C74FB14D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620-E6B5-4E8B-99A8-A50FA847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DC90-CD3C-4439-A849-201D1DC4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8DCB-91BF-4B10-85F3-C4DCD50E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BF5A-C900-4DD8-B55A-C38BF7A9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AC3-9864-4E08-849B-2299C5B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0B61-1B2D-419C-9E7F-F22758A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A3F8-C27D-47BD-BC66-A553A18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331-47F4-4440-AB0A-5FD6E958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ADF-EE27-4C83-A851-A186F19E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3BA0-46E8-4C9C-BCC0-5ABC679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D38B-3C8F-478A-9188-2542C344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EC41-5F75-4755-9BD0-41458ADF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515A-2A6D-4A19-ACDB-F1A0DDC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2A49-F726-4E1D-A014-E64B94D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5937-924B-40C8-B660-39D39F14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089B-74CA-4F85-B6EB-AD1E2AA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0316-C008-42BB-B078-E68D27C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B229-05BF-4FB7-93EA-429FE71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0891-9825-4DC5-8AF7-B9805C2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02C-7415-4CD3-909F-C7F67F03AB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B63-443C-48A6-A3D9-99E1C589D1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arrow.wav" TargetMode="External"/><Relationship Id="rId3" Type="http://schemas.microsoft.com/office/2007/relationships/media" Target="file:///tmp/home/.config/libreoffice/4/user/gallery/arrow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drumroll.wav" TargetMode="External"/><Relationship Id="rId6" Type="http://schemas.microsoft.com/office/2007/relationships/media" Target="file:///tmp/home/.config/libreoffice/4/user/gallery/drumroll.wav" TargetMode="External"/><Relationship Id="rId7" Type="http://schemas.openxmlformats.org/officeDocument/2006/relationships/image" Target="../media/image2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Bremen Town Musicians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ocabulary and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solving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00360" cy="411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explod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7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urviva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living on or of surviv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5436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serab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, very unhapp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67240" cy="37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5" name="voltag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8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trugg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hard to do something that is difficu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751200" cy="36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depend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 on or trust a person or 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familiar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known or close to you from repeated cont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38156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insis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demand or taking a 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0512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xcit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nst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sici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obb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excitemen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very strong, happy feelings about something that you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7525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l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ilding in which grain is ground into flour or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31338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onst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-believe people or animals that are sc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243240" cy="415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usician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who sings, plays, or writes mus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9880" cy="293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lick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73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2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robb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ho rob or st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92948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oin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0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rviv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se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rugg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amilia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si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partnership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or more people become partners and join together to share some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3213000"/>
            <a:ext cx="56390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5" name="type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18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15:49Z</dcterms:created>
  <dc:creator> </dc:creator>
  <dc:description/>
  <dc:language>en-US</dc:language>
  <cp:lastModifiedBy> </cp:lastModifiedBy>
  <dcterms:modified xsi:type="dcterms:W3CDTF">2007-10-22T23:01:47Z</dcterms:modified>
  <cp:revision>2</cp:revision>
  <dc:subject/>
  <dc:title>The Bremen Town Musicians</dc:title>
</cp:coreProperties>
</file>